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522-1FB7-4160-A632-CFC0AE43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E95-C1C8-47A4-971F-350E7BB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9F2-B865-4BC9-935F-7C5BC6FE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920-564A-4428-BC32-35A6704A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484-EFBA-469B-A068-079D2976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0C3-4F76-404F-BCC5-7FFE737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BC2-10DC-4AC5-A87F-23C2643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00A-57C7-4BBE-A1D5-8911A21A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2C9-01F8-4188-87ED-29F12A6A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774-A3A7-4B1E-B16F-6497D9A0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594-84C6-4D95-9EF4-65DBD75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2E2-DBD0-43EC-852C-D0BFD76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B43-CDAF-45CE-A57C-4C8564FAE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ad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94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lejandro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380880"/>
            <a:ext cx="9144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atora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de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343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/28/20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 rot="10800000">
            <a:off x="2741760" y="48002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5105520"/>
            <a:ext cx="20480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 se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8520" y="548640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nvention: Gato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has more than 15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also has energy bars and chewing g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is made up with water, sugar, sodium,  potassium, phosphate, and lemon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gained notoriety when the Florida Gators won there first Orange b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The first flavor of Gatorade was Lemon L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The most flavor drank is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joined with Quaker 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atorade is seen at every basketball, baseball, and football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Inventor: Robert 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r. Robert Cade was born in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born in 19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trained in the university of Texas medical school in Da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was working on research at the university and a coach was mad because his players couldn’t play in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e did research and came up w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ato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22Z</dcterms:created>
  <dc:creator>install</dc:creator>
  <dc:description/>
  <dc:language>en-US</dc:language>
  <cp:lastModifiedBy>install</cp:lastModifiedBy>
  <dcterms:modified xsi:type="dcterms:W3CDTF">2011-03-11T18:32:25Z</dcterms:modified>
  <cp:revision>8</cp:revision>
  <dc:subject/>
  <dc:title>Slide 1</dc:title>
</cp:coreProperties>
</file>